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99B-4424-4983-879A-716DD18A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E0B-9227-4D93-A2CC-D8E7B406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4EE-B8D0-406C-843D-750CC75E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5C4-649F-4B7F-86BE-7F77E51F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3826-EB9B-49C3-9A63-2998FF99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8784-9AC8-48A2-B02B-A6F0C25F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1B62-8D17-41F5-8D68-3DD4D15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0D3-42FE-403C-B423-41A7CC1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181-8E48-4990-BB27-577CF306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0DAA-FE92-49E0-867F-6E34339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1063-1457-4E6D-9CDC-594F8F7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7A9-FF49-4D60-B0E0-CC16504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5DE4-778F-4A26-9174-E196CBD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E2E1-47F3-4D6E-92F7-CEB56EA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386-25A9-4C87-958E-DFEC5DB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900-3C4E-4002-8F26-D169A4CF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FFAF-C9FC-4508-A7A8-6108F8E4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6E9-A63C-437D-857A-E2B73245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095-A64A-4C16-9B20-9C53F27C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A46-2F80-416E-9B76-D34E00E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130-636C-4F72-9A8D-1F423C6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8CF-0451-4A3B-917D-B74F4E3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619-0B35-4E0D-85B1-E82578A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D87-3F69-40BC-8FE5-F27A569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0E2B-FB2C-4B24-BD55-C7C11FE0F4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4952880"/>
            <a:ext cx="152640" cy="15264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29200" y="34290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7800" y="52578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4343400"/>
            <a:ext cx="152280" cy="152280"/>
          </a:xfrm>
          <a:prstGeom prst="irregularSeal2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0" y="4572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666880" y="586728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426708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14600" y="5715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819520" y="6019920"/>
            <a:ext cx="152280" cy="7596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343400" y="3429000"/>
            <a:ext cx="152280" cy="76320"/>
          </a:xfrm>
          <a:custGeom>
            <a:avLst/>
            <a:gdLst>
              <a:gd name="textAreaLeft" fmla="*/ 62640 w 152280"/>
              <a:gd name="textAreaRight" fmla="*/ 89640 w 15228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324480" y="2362320"/>
            <a:ext cx="152640" cy="7596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8880" y="3429000"/>
            <a:ext cx="152640" cy="76320"/>
          </a:xfrm>
          <a:custGeom>
            <a:avLst/>
            <a:gdLst>
              <a:gd name="textAreaLeft" fmla="*/ 63000 w 152640"/>
              <a:gd name="textAreaRight" fmla="*/ 89640 w 1526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939-F6D4-4231-9E75-D5F1CB3CE2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cgrath@ncsa.uiuc.edu" TargetMode="External"/><Relationship Id="rId2" Type="http://schemas.openxmlformats.org/officeDocument/2006/relationships/hyperlink" Target="mailto:mcgrath@ncsa.uiuc.edu" TargetMode="External"/><Relationship Id="rId3" Type="http://schemas.openxmlformats.org/officeDocument/2006/relationships/hyperlink" Target="mailto:mcgrath@ncsa.uiuc.edu" TargetMode="External"/><Relationship Id="rId4" Type="http://schemas.openxmlformats.org/officeDocument/2006/relationships/hyperlink" Target="mailto:mcgrath@ncsa.uiuc.edu" TargetMode="External"/><Relationship Id="rId5" Type="http://schemas.openxmlformats.org/officeDocument/2006/relationships/hyperlink" Target="mailto:mcgrath@ncsa.uiuc.edu" TargetMode="External"/><Relationship Id="rId6" Type="http://schemas.openxmlformats.org/officeDocument/2006/relationships/hyperlink" Target="mailto:mcgrath@ncsa.uiuc.edu" TargetMode="External"/><Relationship Id="rId7" Type="http://schemas.openxmlformats.org/officeDocument/2006/relationships/hyperlink" Target="mailto:mcgrath@ncsa.uiuc.edu" TargetMode="External"/><Relationship Id="rId8" Type="http://schemas.openxmlformats.org/officeDocument/2006/relationships/hyperlink" Target="mailto:xlu@ncsa.uiuc.edu" TargetMode="External"/><Relationship Id="rId9" Type="http://schemas.openxmlformats.org/officeDocument/2006/relationships/hyperlink" Target="mailto:xlu@ncsa.uiuc.edu" TargetMode="External"/><Relationship Id="rId10" Type="http://schemas.openxmlformats.org/officeDocument/2006/relationships/hyperlink" Target="mailto:xlu@ncsa.uiuc.edu" TargetMode="External"/><Relationship Id="rId11" Type="http://schemas.openxmlformats.org/officeDocument/2006/relationships/hyperlink" Target="mailto:xlu@ncsa.uiuc.edu" TargetMode="External"/><Relationship Id="rId12" Type="http://schemas.openxmlformats.org/officeDocument/2006/relationships/hyperlink" Target="mailto:xlu@ncsa.uiuc.edu" TargetMode="External"/><Relationship Id="rId13" Type="http://schemas.openxmlformats.org/officeDocument/2006/relationships/hyperlink" Target="mailto:xlu@ncsa.uiuc.edu" TargetMode="External"/><Relationship Id="rId14" Type="http://schemas.openxmlformats.org/officeDocument/2006/relationships/hyperlink" Target="mailto:xlu@ncsa.uiuc.edu" TargetMode="External"/><Relationship Id="rId15" Type="http://schemas.openxmlformats.org/officeDocument/2006/relationships/hyperlink" Target="mailto:x-cao@ncsa.uiuc.edu" TargetMode="External"/><Relationship Id="rId16" Type="http://schemas.openxmlformats.org/officeDocument/2006/relationships/hyperlink" Target="mailto:x-cao@ncsa.uiuc.edu" TargetMode="External"/><Relationship Id="rId17" Type="http://schemas.openxmlformats.org/officeDocument/2006/relationships/hyperlink" Target="mailto:x-cao@ncsa.uiuc.edu" TargetMode="External"/><Relationship Id="rId18" Type="http://schemas.openxmlformats.org/officeDocument/2006/relationships/hyperlink" Target="mailto:x-cao@ncsa.uiuc.edu" TargetMode="External"/><Relationship Id="rId19" Type="http://schemas.openxmlformats.org/officeDocument/2006/relationships/hyperlink" Target="mailto:x-cao@ncsa.uiuc.edu" TargetMode="External"/><Relationship Id="rId20" Type="http://schemas.openxmlformats.org/officeDocument/2006/relationships/hyperlink" Target="mailto:x-cao@ncsa.uiuc.edu" TargetMode="External"/><Relationship Id="rId21" Type="http://schemas.openxmlformats.org/officeDocument/2006/relationships/hyperlink" Target="mailto:x-cao@ncsa.uiuc.edu" TargetMode="External"/><Relationship Id="rId22" Type="http://schemas.openxmlformats.org/officeDocument/2006/relationships/hyperlink" Target="mailto:x-cao@ncsa.uiuc.edu" TargetMode="External"/><Relationship Id="rId2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M0PQ5KIL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12880" cy="635040"/>
          </a:xfrm>
          <a:prstGeom prst="rect">
            <a:avLst/>
          </a:prstGeom>
          <a:ln w="0">
            <a:noFill/>
          </a:ln>
        </p:spPr>
      </p:pic>
      <p:pic>
        <p:nvPicPr>
          <p:cNvPr id="100" name="NCSALogoSmaller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1752840" cy="63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ress portable, high performance I/O needs for Java for Science and Engineering Compu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cool stuff with Java and HD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value to HDF  -- a standard Java interface to the HDF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ess to HDF files from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Java 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work loadable components for accessing HD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ble, customizable frameworks for accessing H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Project Goa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“Collage in Jav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Java-based collaborative scientific visualization t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ace aging tools with state of the art Java-based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, supported, NCSA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DF Java Too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current sta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1 version released on 1 September 199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ource code was relea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ll support for HDF 4 Library:  the official “Java HDF Interfac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browsing and visualization of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oc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java-hdf-html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tatu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HV fu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tter support for very larg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re visualization fea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parent access to remote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laborative version of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2  (lots of new GUI featur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lanned development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roved engineering, upgrade to JDK 1.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output in various formats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ingest, editing 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help from user support to prioritize features (see hand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05120" y="2438280"/>
            <a:ext cx="4479840" cy="3475080"/>
            <a:chOff x="1905120" y="2438280"/>
            <a:chExt cx="4479840" cy="3475080"/>
          </a:xfrm>
        </p:grpSpPr>
        <p:sp>
          <p:nvSpPr>
            <p:cNvPr id="190" name=""/>
            <p:cNvSpPr/>
            <p:nvPr/>
          </p:nvSpPr>
          <p:spPr>
            <a:xfrm>
              <a:off x="3641760" y="5273640"/>
              <a:ext cx="639720" cy="63972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isk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9240" y="4816440"/>
              <a:ext cx="1189080" cy="3650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HDF Library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240" y="4084560"/>
              <a:ext cx="118908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C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ative methods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240" y="3352680"/>
              <a:ext cx="1096920" cy="4572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ava  laye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(ncsa.hdf.hdflib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4560" y="3352680"/>
              <a:ext cx="182520" cy="118908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30960 h 1189080"/>
                <a:gd name="textAreaBottom" fmla="*/ 1158120 h 11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718080"/>
              <a:ext cx="1096920" cy="549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The Java HDF   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nterface (JHI)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Implement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30840" y="3992400"/>
              <a:ext cx="92160" cy="1098720"/>
            </a:xfrm>
            <a:custGeom>
              <a:avLst/>
              <a:gdLst>
                <a:gd name="textAreaLeft" fmla="*/ 0 w 92160"/>
                <a:gd name="textAreaRight" fmla="*/ 33120 w 92160"/>
                <a:gd name="textAreaTop" fmla="*/ 28440 h 1098720"/>
                <a:gd name="textAreaBottom" fmla="*/ 10702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3000" y="4084560"/>
              <a:ext cx="1096920" cy="10969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A  combined,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dynamically loaded native code library: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HDF, Java native method  implemntation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67080" y="2438280"/>
              <a:ext cx="824040" cy="5493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ffffcc"/>
                  </a:solidFill>
                  <a:latin typeface="Times New Roman"/>
                </a:rPr>
                <a:t>JHV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16440" y="51814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6440" y="454176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24280" y="3809880"/>
              <a:ext cx="92160" cy="92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2987640"/>
              <a:ext cx="90360" cy="273240"/>
            </a:xfrm>
            <a:prstGeom prst="upDownArrow">
              <a:avLst>
                <a:gd name="adj1" fmla="val 50000"/>
                <a:gd name="adj2" fmla="val 60198"/>
              </a:avLst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5800" y="2803680"/>
              <a:ext cx="1919160" cy="36648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imes New Roman"/>
                </a:rPr>
                <a:t>Open Interface for any Java Application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373280" y="3078000"/>
              <a:ext cx="182520" cy="9216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4662360"/>
            <a:ext cx="639720" cy="6397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Dis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78400" y="4205160"/>
            <a:ext cx="1189080" cy="3654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HDF Libra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78400" y="3473280"/>
            <a:ext cx="118908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C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(native methods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78400" y="2925720"/>
            <a:ext cx="109692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35600" y="4570560"/>
            <a:ext cx="92160" cy="918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5600" y="3930480"/>
            <a:ext cx="92160" cy="921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45240" y="3200400"/>
            <a:ext cx="90360" cy="9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103480"/>
            <a:ext cx="1919160" cy="36504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Open Interface for any Java Applica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1320" y="2743200"/>
            <a:ext cx="1097280" cy="2746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ava  lay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828800"/>
            <a:ext cx="822240" cy="5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JHV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84560" y="2376360"/>
            <a:ext cx="92160" cy="274680"/>
          </a:xfrm>
          <a:prstGeom prst="upDownArrow">
            <a:avLst>
              <a:gd name="adj1" fmla="val 50000"/>
              <a:gd name="adj2" fmla="val 59333"/>
            </a:avLst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24280" y="2468520"/>
            <a:ext cx="184320" cy="921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3640" y="2743200"/>
            <a:ext cx="914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Networ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3368160" y="3107880"/>
            <a:ext cx="365040" cy="365400"/>
          </a:xfrm>
          <a:custGeom>
            <a:avLst/>
            <a:gdLst>
              <a:gd name="textAreaLeft" fmla="*/ 104760 w 365040"/>
              <a:gd name="textAreaRight" fmla="*/ 312840 w 365040"/>
              <a:gd name="textAreaTop" fmla="*/ 210600 h 365400"/>
              <a:gd name="textAreaBottom" fmla="*/ 313200 h 365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52000" y="2376720"/>
            <a:ext cx="366840" cy="365040"/>
          </a:xfrm>
          <a:custGeom>
            <a:avLst/>
            <a:gdLst>
              <a:gd name="textAreaLeft" fmla="*/ 105120 w 366840"/>
              <a:gd name="textAreaRight" fmla="*/ 314280 w 366840"/>
              <a:gd name="textAreaTop" fmla="*/ 210240 h 365040"/>
              <a:gd name="textAreaBottom" fmla="*/ 3128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2590920"/>
            <a:ext cx="1554120" cy="73008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200400"/>
            <a:ext cx="914400" cy="91296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440 h 912960"/>
              <a:gd name="textAreaBottom" fmla="*/ 7045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73640" y="3382920"/>
            <a:ext cx="73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And then Magic happens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ffffcc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3200" y="-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Java HDF Server Prototype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Java HDF Server (JHS) is a Java servlet  which can be wrapped by any other Java-based server such as Sun’s Java Web Server  or W3C’s Jigsaw ser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tandard object model for transparently accessing local and remote HDF f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271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17900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HDF Java Overview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Java Te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E. McGrath (le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cgrath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njian L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xlu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er Ca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x-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cao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@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8"/>
              </a:rPr>
              <a:t>ncsa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0"/>
              </a:rPr>
              <a:t>uiuc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2"/>
              </a:rPr>
              <a:t>ed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980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architecture" descr=""/>
          <p:cNvPicPr/>
          <p:nvPr/>
        </p:nvPicPr>
        <p:blipFill>
          <a:blip r:embed="rId1"/>
          <a:stretch/>
        </p:blipFill>
        <p:spPr>
          <a:xfrm>
            <a:off x="1600200" y="2219400"/>
            <a:ext cx="5423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Java HDF Architecture (future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tree" descr=""/>
          <p:cNvPicPr/>
          <p:nvPr/>
        </p:nvPicPr>
        <p:blipFill>
          <a:blip r:embed="rId1"/>
          <a:stretch/>
        </p:blipFill>
        <p:spPr>
          <a:xfrm>
            <a:off x="3016080" y="160020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/Edit/Modify HDF file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ous output options (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ularize the design, make easier for users to customize and ext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Java 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cussion with User representativ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ease see the hand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CSA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 HDF: Statu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: Continuing Su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Prototype/Translation/Compat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Free, basic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eatur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Now and fu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4 Library suppor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p desk (hdfhelp@ncsa.uiuc.edu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utor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g fix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:  http://hdf.ncsa.uiuc.edu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CSA HDF Team will support the current HDF 4 Library “forever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371600" y="1905120"/>
            <a:ext cx="4078440" cy="3863520"/>
            <a:chOff x="1371600" y="1905120"/>
            <a:chExt cx="4078440" cy="3863520"/>
          </a:xfrm>
        </p:grpSpPr>
        <p:sp>
          <p:nvSpPr>
            <p:cNvPr id="118" name=""/>
            <p:cNvSpPr/>
            <p:nvPr/>
          </p:nvSpPr>
          <p:spPr>
            <a:xfrm>
              <a:off x="1371600" y="1905120"/>
              <a:ext cx="4078440" cy="1001520"/>
            </a:xfrm>
            <a:custGeom>
              <a:avLst/>
              <a:gdLst/>
              <a:ahLst/>
              <a:rect l="l" t="t" r="r" b="b"/>
              <a:pathLst>
                <a:path w="2569" h="631">
                  <a:moveTo>
                    <a:pt x="336" y="630"/>
                  </a:moveTo>
                  <a:lnTo>
                    <a:pt x="2244" y="630"/>
                  </a:lnTo>
                  <a:lnTo>
                    <a:pt x="2568" y="0"/>
                  </a:lnTo>
                  <a:lnTo>
                    <a:pt x="0" y="6"/>
                  </a:lnTo>
                  <a:lnTo>
                    <a:pt x="336" y="63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5400" y="2895480"/>
              <a:ext cx="3059280" cy="915840"/>
            </a:xfrm>
            <a:custGeom>
              <a:avLst/>
              <a:gdLst/>
              <a:ahLst/>
              <a:rect l="l" t="t" r="r" b="b"/>
              <a:pathLst>
                <a:path w="1927" h="577">
                  <a:moveTo>
                    <a:pt x="0" y="0"/>
                  </a:moveTo>
                  <a:lnTo>
                    <a:pt x="1926" y="0"/>
                  </a:lnTo>
                  <a:lnTo>
                    <a:pt x="1620" y="576"/>
                  </a:lnTo>
                  <a:lnTo>
                    <a:pt x="312" y="576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5160" y="3803400"/>
              <a:ext cx="2046240" cy="847440"/>
            </a:xfrm>
            <a:custGeom>
              <a:avLst/>
              <a:gdLst/>
              <a:ahLst/>
              <a:rect l="l" t="t" r="r" b="b"/>
              <a:pathLst>
                <a:path w="1289" h="534">
                  <a:moveTo>
                    <a:pt x="0" y="5"/>
                  </a:moveTo>
                  <a:lnTo>
                    <a:pt x="274" y="533"/>
                  </a:lnTo>
                  <a:lnTo>
                    <a:pt x="647" y="528"/>
                  </a:lnTo>
                  <a:lnTo>
                    <a:pt x="1013" y="528"/>
                  </a:lnTo>
                  <a:lnTo>
                    <a:pt x="1288" y="0"/>
                  </a:lnTo>
                  <a:lnTo>
                    <a:pt x="0" y="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7960" y="4643280"/>
              <a:ext cx="1154160" cy="1125360"/>
            </a:xfrm>
            <a:custGeom>
              <a:avLst/>
              <a:gdLst/>
              <a:ahLst/>
              <a:rect l="l" t="t" r="r" b="b"/>
              <a:pathLst>
                <a:path w="727" h="709">
                  <a:moveTo>
                    <a:pt x="0" y="0"/>
                  </a:moveTo>
                  <a:lnTo>
                    <a:pt x="366" y="708"/>
                  </a:lnTo>
                  <a:lnTo>
                    <a:pt x="726" y="0"/>
                  </a:lnTo>
                  <a:lnTo>
                    <a:pt x="0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360" y="289404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5400" y="3922560"/>
              <a:ext cx="145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Low-leve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6600" y="4786200"/>
              <a:ext cx="824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HD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38280" y="2033640"/>
            <a:ext cx="37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DF-EOS AP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8440" y="1990800"/>
            <a:ext cx="3682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utilities &amp; applications for manipulating, viewing, and analyzing data in HDF fi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8769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A file format* for scientific da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* Format and library are from NC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562720" y="3124080"/>
            <a:ext cx="2505960" cy="1434960"/>
            <a:chOff x="5562720" y="3124080"/>
            <a:chExt cx="2505960" cy="1434960"/>
          </a:xfrm>
        </p:grpSpPr>
        <p:sp>
          <p:nvSpPr>
            <p:cNvPr id="129" name=""/>
            <p:cNvSpPr/>
            <p:nvPr/>
          </p:nvSpPr>
          <p:spPr>
            <a:xfrm>
              <a:off x="5562720" y="3124080"/>
              <a:ext cx="482400" cy="1434960"/>
            </a:xfrm>
            <a:custGeom>
              <a:avLst/>
              <a:gdLst>
                <a:gd name="textAreaLeft" fmla="*/ 0 w 482400"/>
                <a:gd name="textAreaRight" fmla="*/ 174240 w 482400"/>
                <a:gd name="textAreaTop" fmla="*/ 37080 h 1434960"/>
                <a:gd name="textAreaBottom" fmla="*/ 1397880 h 14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82"/>
                  </a:lnTo>
                  <a:cubicBezTo>
                    <a:pt x="10800" y="10282"/>
                    <a:pt x="16200" y="11182"/>
                    <a:pt x="21600" y="11182"/>
                  </a:cubicBezTo>
                  <a:cubicBezTo>
                    <a:pt x="16200" y="11182"/>
                    <a:pt x="10800" y="12082"/>
                    <a:pt x="10800" y="1298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95320" y="364644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HDF Library*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 Library Lay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9800" y="601992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:  New HDF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-5 Library: “distant futur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5 is a new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numbers of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y large ob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d saf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ch cleaner object model &amp; imple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DF 4 compatibility and conversion will be provi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HDF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Tool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DF tools:  Basic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ava HDF View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cientific Data Serv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Basic Web/Internet browsing an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Horizon Image Brows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Generic Java applets for data brow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“Scientific Data Browser”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access to HDF fi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GI program allows HDF files to be browsed by any Web brow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other file formats:  FITS, CD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now at: http://hdf.ncsa.uiuc.ed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hes STX has extended NCSA’s product to support HDF-E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December 15 at: http://hops.stx.com:8080/dialhome.ht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CS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Horizon Image Browser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ic Java classes for viewing da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components to be plugged in and custom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s any file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ailable now at: http://imagelib.ncsa.uiuc.edu/imagelib/Horiz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NCSALogoSmaller" descr=""/>
          <p:cNvPicPr/>
          <p:nvPr/>
        </p:nvPicPr>
        <p:blipFill>
          <a:blip r:embed="rId1"/>
          <a:stretch/>
        </p:blipFill>
        <p:spPr>
          <a:xfrm>
            <a:off x="7543800" y="762120"/>
            <a:ext cx="914400" cy="33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6360" y="5891040"/>
            <a:ext cx="67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National Center for Supercomputing Applications / University of Illinois, Urbana-Champaign            ESDIS User Support  11/9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1676520"/>
            <a:ext cx="8153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6T17:30:22Z</dcterms:created>
  <dc:creator>Robert E.  McGrath</dc:creator>
  <dc:description/>
  <dc:language>en-US</dc:language>
  <cp:lastModifiedBy>Robert E.  McGrath</cp:lastModifiedBy>
  <cp:lastPrinted>1997-11-16T19:52:28Z</cp:lastPrinted>
  <dcterms:modified xsi:type="dcterms:W3CDTF">1997-11-16T19:54:12Z</dcterms:modified>
  <cp:revision>4</cp:revision>
  <dc:subject/>
  <dc:title>HDF Java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sa.uiuc.edu/People/mcgrath</vt:lpwstr>
  </property>
  <property fmtid="{D5CDD505-2E9C-101B-9397-08002B2CF9AE}" pid="9" name="LinkColor">
    <vt:r8>16711782</vt:r8>
  </property>
  <property fmtid="{D5CDD505-2E9C-101B-9397-08002B2CF9AE}" pid="10" name="MailAddress">
    <vt:lpwstr>mcgrath@ncsa.uiu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cgrath\Java-HDF\JPL\11-18-97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